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09CA-84CC-431C-8A47-DA4D45F01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0720" y="1979280"/>
            <a:ext cx="885024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0720" y="4139640"/>
            <a:ext cx="885024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0DA6-BD1E-4E5D-9261-C46F634FD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720" y="1979280"/>
            <a:ext cx="43185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5640" y="1979280"/>
            <a:ext cx="43185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0720" y="4139640"/>
            <a:ext cx="43185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55640" y="4139640"/>
            <a:ext cx="43185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DAFA-E352-4644-AB28-1BB047CD4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0720" y="1979280"/>
            <a:ext cx="28494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13040" y="1979280"/>
            <a:ext cx="28494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05360" y="1979280"/>
            <a:ext cx="28494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0720" y="4139640"/>
            <a:ext cx="28494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13040" y="4139640"/>
            <a:ext cx="28494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05360" y="4139640"/>
            <a:ext cx="28494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B9BC-8142-455C-9B98-35784578D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C0A20-847B-4829-8AC5-D96C4249F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20720" y="1979280"/>
            <a:ext cx="885024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DD029-579B-42C4-9FC2-AE36CC24D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20720" y="1979280"/>
            <a:ext cx="885024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A7C8A-47D7-45F3-99AB-BAB2E9B59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0720" y="1979280"/>
            <a:ext cx="431856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55640" y="1979280"/>
            <a:ext cx="431856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3E773-4E2B-4E51-84D8-DF4969FDF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1BA76-9A1F-4EDC-B92B-7D53BF103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5CAC3-0510-4F32-8978-76FF5B1E6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20720" y="1979280"/>
            <a:ext cx="43185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55640" y="1979280"/>
            <a:ext cx="431856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20720" y="4139640"/>
            <a:ext cx="43185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EBF45-CD5D-44EF-A8E3-EF5CEF60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0720" y="1979280"/>
            <a:ext cx="885024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1998-102B-44F7-94F0-4A955621B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20720" y="1979280"/>
            <a:ext cx="431856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55640" y="1979280"/>
            <a:ext cx="43185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55640" y="4139640"/>
            <a:ext cx="43185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3D4D5-74E2-47E0-8D91-A3A110E8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0720" y="1979280"/>
            <a:ext cx="43185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55640" y="1979280"/>
            <a:ext cx="43185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20720" y="4139640"/>
            <a:ext cx="885024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B035E-AE77-4DC8-894C-386603BF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20720" y="1979280"/>
            <a:ext cx="885024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20720" y="4139640"/>
            <a:ext cx="885024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5CB15-1D07-4B4B-80AA-0665FD1DF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20720" y="1979280"/>
            <a:ext cx="43185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55640" y="1979280"/>
            <a:ext cx="43185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20720" y="4139640"/>
            <a:ext cx="43185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55640" y="4139640"/>
            <a:ext cx="43185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DD473-900F-457E-A282-2F2F8EAD8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20720" y="1979280"/>
            <a:ext cx="28494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13040" y="1979280"/>
            <a:ext cx="28494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705360" y="1979280"/>
            <a:ext cx="28494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20720" y="4139640"/>
            <a:ext cx="28494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13040" y="4139640"/>
            <a:ext cx="28494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705360" y="4139640"/>
            <a:ext cx="28494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BB209-C7F2-4E13-A889-D0D8D2B5E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54D40-D5D1-413D-976D-045BA3D93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20720" y="1979280"/>
            <a:ext cx="885024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F8B6D-029B-48D2-BE0D-3AE05295D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20720" y="1979280"/>
            <a:ext cx="885024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5342D-9CC1-400F-9CA6-7AE6A16D4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20720" y="1979280"/>
            <a:ext cx="431856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55640" y="1979280"/>
            <a:ext cx="431856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8ABA7-BE66-424C-8608-7C40AA968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61114-6FD2-4340-9FC5-BD47D7E68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0720" y="1979280"/>
            <a:ext cx="885024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0632-FF37-4B36-AFAE-B0A10CF55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1EA4C-DB6C-4754-BEF8-AC8EC9AE0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20720" y="1979280"/>
            <a:ext cx="43185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255640" y="1979280"/>
            <a:ext cx="431856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20720" y="4139640"/>
            <a:ext cx="43185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69EF7-22FC-4F75-A9A9-49E6D1A79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20720" y="1979280"/>
            <a:ext cx="431856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255640" y="1979280"/>
            <a:ext cx="43185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255640" y="4139640"/>
            <a:ext cx="43185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907CB-802A-4A16-BC66-2FF3D114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20720" y="1979280"/>
            <a:ext cx="43185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55640" y="1979280"/>
            <a:ext cx="43185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20720" y="4139640"/>
            <a:ext cx="885024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AA4CE-8439-4AA2-B1B5-F25A9D917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20720" y="1979280"/>
            <a:ext cx="885024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20720" y="4139640"/>
            <a:ext cx="885024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8ECED-1B8D-44DC-B69C-5AA2F9F0E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20720" y="1979280"/>
            <a:ext cx="43185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55640" y="1979280"/>
            <a:ext cx="43185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20720" y="4139640"/>
            <a:ext cx="43185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255640" y="4139640"/>
            <a:ext cx="43185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E773F-4183-4987-B11A-41BA0A5BC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20720" y="1979280"/>
            <a:ext cx="28494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713040" y="1979280"/>
            <a:ext cx="28494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705360" y="1979280"/>
            <a:ext cx="28494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20720" y="4139640"/>
            <a:ext cx="28494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713040" y="4139640"/>
            <a:ext cx="28494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705360" y="4139640"/>
            <a:ext cx="28494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8D44A-51B7-4930-9BD2-6E8995B41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0720" y="1979280"/>
            <a:ext cx="431856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5640" y="1979280"/>
            <a:ext cx="431856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6523-7413-4B7F-A84D-65C703341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FF80-EC23-4F05-B4DD-2ADCB6C45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B63E-FE2F-4653-9289-68756C78D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720" y="1979280"/>
            <a:ext cx="43185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5640" y="1979280"/>
            <a:ext cx="431856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0720" y="4139640"/>
            <a:ext cx="43185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1A3F-96B2-466D-99E1-99E80641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720" y="1979280"/>
            <a:ext cx="431856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5640" y="1979280"/>
            <a:ext cx="43185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55640" y="4139640"/>
            <a:ext cx="43185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77C9-C1C4-46D5-970D-B762C3547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720" y="1979280"/>
            <a:ext cx="43185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5640" y="1979280"/>
            <a:ext cx="43185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0720" y="4139640"/>
            <a:ext cx="885024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D207-D4A5-44E5-84E9-C8A00C48B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5976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3676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8456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3712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2652FD-F109-4458-8459-8A8C8C7766A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60000" y="2128680"/>
            <a:ext cx="8310600" cy="4165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7000"/>
          </a:bodyPr>
          <a:p>
            <a:pPr marL="33264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971280" y="6743520"/>
            <a:ext cx="234324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698640" y="6743520"/>
            <a:ext cx="319068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335360" y="6743520"/>
            <a:ext cx="234324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03DFE6-031F-42BE-A940-1C1625206CAD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20720" y="1979280"/>
            <a:ext cx="885024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6000"/>
          </a:bodyPr>
          <a:p>
            <a:pPr marL="32904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12360" y="6562440"/>
            <a:ext cx="234324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555720" y="6562440"/>
            <a:ext cx="319068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335360" y="6562440"/>
            <a:ext cx="234324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E2E466-4DDA-40E6-848A-E897E6B9EB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57200" y="-123840"/>
            <a:ext cx="845820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24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900" spc="-1" strike="noStrike">
                <a:solidFill>
                  <a:srgbClr val="000000"/>
                </a:solidFill>
                <a:latin typeface="Arial"/>
              </a:rPr>
              <a:t>Patrick Henry</a:t>
            </a: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858000"/>
            <a:ext cx="32004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572000" y="1819440"/>
            <a:ext cx="4432320" cy="50385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 flipH="1">
            <a:off x="8448840" y="685800"/>
            <a:ext cx="933120" cy="685800"/>
          </a:xfrm>
          <a:prstGeom prst="line">
            <a:avLst/>
          </a:prstGeom>
          <a:ln w="367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201400" y="5486400"/>
            <a:ext cx="1440" cy="228600"/>
          </a:xfrm>
          <a:prstGeom prst="cloudCallout">
            <a:avLst>
              <a:gd name="adj1" fmla="val -18634"/>
              <a:gd name="adj2" fmla="val 133712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0" y="2743200"/>
            <a:ext cx="3200400" cy="2514600"/>
          </a:xfrm>
          <a:prstGeom prst="cloudCallout">
            <a:avLst>
              <a:gd name="adj1" fmla="val -121180"/>
              <a:gd name="adj2" fmla="val -45449"/>
            </a:avLst>
          </a:pr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525780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3514680"/>
            <a:ext cx="23986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's Me!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7016760"/>
            <a:ext cx="34290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: Came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85800" y="3429000"/>
            <a:ext cx="15316200" cy="20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120" bIns="0" anchor="t">
            <a:noAutofit/>
          </a:bodyPr>
          <a:p>
            <a:pPr>
              <a:lnSpc>
                <a:spcPct val="95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http://www.ducksters.com/history/american_revolution/patrick_henry.ph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14400" y="4114800"/>
            <a:ext cx="5486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120" bIns="0" anchor="t">
            <a:noAutofit/>
          </a:bodyPr>
          <a:p>
            <a:pPr>
              <a:lnSpc>
                <a:spcPct val="95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he New Book Of Knowled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. 8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4846680"/>
            <a:ext cx="8431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120" bIns="0" anchor="t">
            <a:noAutofit/>
          </a:bodyPr>
          <a:p>
            <a:pPr>
              <a:lnSpc>
                <a:spcPct val="95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http://elementary.oslis.org/cite-sources/mla-elementary-c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514600" y="803160"/>
            <a:ext cx="457200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lackadder ITC"/>
              </a:rPr>
              <a:t>Resources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15316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Kristen ITC"/>
              </a:rPr>
              <a:t>He was born , Of course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63480" y="1986120"/>
            <a:ext cx="9166320" cy="41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Kristen ITC"/>
              </a:rPr>
              <a:t>Patrick Henry was born on May 29</a:t>
            </a:r>
            <a:r>
              <a:rPr b="0" lang="en-US" sz="6600" spc="-1" strike="noStrike" baseline="33000">
                <a:solidFill>
                  <a:srgbClr val="000000"/>
                </a:solidFill>
                <a:latin typeface="Kristen ITC"/>
              </a:rPr>
              <a:t>th</a:t>
            </a:r>
            <a:r>
              <a:rPr b="0" lang="en-US" sz="6600" spc="-1" strike="noStrike">
                <a:solidFill>
                  <a:srgbClr val="000000"/>
                </a:solidFill>
                <a:latin typeface="Kristen ITC"/>
              </a:rPr>
              <a:t> , 1736 in Hanover County, Virgini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85800" y="117360"/>
            <a:ext cx="848052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Papyrus"/>
              </a:rPr>
              <a:t>Professions (Jobs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619280"/>
            <a:ext cx="6629400" cy="40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pyrus"/>
              </a:rPr>
              <a:t>When he was 15 years of age, he was a clerk in a local sto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pyru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Papyrus"/>
              </a:rPr>
              <a:t>At the age of 24, and after studying just one law book, he became a lawy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8600" y="228600"/>
            <a:ext cx="2514600" cy="2743200"/>
          </a:xfrm>
          <a:custGeom>
            <a:avLst/>
            <a:gdLst>
              <a:gd name="textAreaLeft" fmla="*/ 590760 w 2514600"/>
              <a:gd name="textAreaRight" fmla="*/ 1922040 w 2514600"/>
              <a:gd name="textAreaTop" fmla="*/ 322560 h 2743200"/>
              <a:gd name="textAreaBottom" fmla="*/ 1720800 h 27432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9" y="5766"/>
                  <a:pt x="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086600" y="228600"/>
            <a:ext cx="2514600" cy="2743200"/>
          </a:xfrm>
          <a:custGeom>
            <a:avLst/>
            <a:gdLst>
              <a:gd name="textAreaLeft" fmla="*/ 590760 w 2514600"/>
              <a:gd name="textAreaRight" fmla="*/ 1922040 w 2514600"/>
              <a:gd name="textAreaTop" fmla="*/ 322560 h 2743200"/>
              <a:gd name="textAreaBottom" fmla="*/ 1720800 h 27432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9" y="5766"/>
                  <a:pt x="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00400" y="914400"/>
            <a:ext cx="3657600" cy="19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바탕"/>
              </a:rPr>
              <a:t>He got married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828800" y="3886200"/>
            <a:ext cx="5943600" cy="21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바탕"/>
              </a:rPr>
              <a:t>When he was 18,he got married to Sarah Shelt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28600" y="457200"/>
            <a:ext cx="982980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FreesiaUPC"/>
              </a:rPr>
              <a:t>Virginia House of Burgess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71600" y="2903400"/>
            <a:ext cx="6400800" cy="25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eesiaUPC"/>
              </a:rPr>
              <a:t>Patrick Henry was elected to the Virginia House of Burgesses in the year 1765, the year of the Stamp Ac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228600" y="3200400"/>
          <a:ext cx="10058400" cy="67928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3200400"/>
                    <a:ext cx="10058400" cy="679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1844640" y="434880"/>
          <a:ext cx="14843160" cy="84805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844640" y="434880"/>
                    <a:ext cx="14843160" cy="848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828800" y="345960"/>
            <a:ext cx="640080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SimSun"/>
              </a:rPr>
              <a:t>Election Time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143000" y="1719360"/>
            <a:ext cx="7315200" cy="50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imSun"/>
              </a:rPr>
              <a:t>Patrick Henry was elected as governor of Virginia and served 5 terms.</a:t>
            </a:r>
            <a:r>
              <a:rPr b="0" lang="en-US" sz="44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imSun"/>
              </a:rPr>
              <a:t>In1786,he retired to his home near Hampden-Sidney,Virginia to continue working on his law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600200" y="457200"/>
            <a:ext cx="731520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Gungsuh"/>
              </a:rPr>
              <a:t>Sad but true.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971800"/>
            <a:ext cx="8001000" cy="34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ungsuh"/>
              </a:rPr>
              <a:t>Patrick Henry lived to be 63 years old and died on his plantation, “Red Hill” on June 6</a:t>
            </a:r>
            <a:r>
              <a:rPr b="0" lang="en-US" sz="4800" spc="-1" strike="noStrike" baseline="33000">
                <a:solidFill>
                  <a:srgbClr val="000000"/>
                </a:solidFill>
                <a:latin typeface="Gungsuh"/>
              </a:rPr>
              <a:t>th</a:t>
            </a:r>
            <a:r>
              <a:rPr b="0" lang="en-US" sz="4800" spc="-1" strike="noStrike">
                <a:solidFill>
                  <a:srgbClr val="000000"/>
                </a:solidFill>
                <a:latin typeface="Gungsuh"/>
              </a:rPr>
              <a:t> , 1799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371600" y="574560"/>
            <a:ext cx="617220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FrankRuehl"/>
              </a:rPr>
              <a:t>BARNICALS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2960" y="2514600"/>
            <a:ext cx="9644040" cy="40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Ruehl"/>
              </a:rPr>
              <a:t>Some information was not found, such as parent's names, if they had children, et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Ruehl"/>
              </a:rPr>
              <a:t>Sorry for the inconvenience!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971800" y="4572000"/>
            <a:ext cx="3200400" cy="2759040"/>
          </a:xfrm>
          <a:prstGeom prst="noSmoking">
            <a:avLst>
              <a:gd name="adj" fmla="val 12500"/>
            </a:avLst>
          </a:prstGeom>
          <a:solidFill>
            <a:srgbClr val="c5000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629400" y="5943600"/>
            <a:ext cx="11430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00200" y="5943600"/>
            <a:ext cx="11430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0" y="5257800"/>
            <a:ext cx="22860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38472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257800"/>
            <a:ext cx="1765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38472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17:23:44Z</dcterms:created>
  <dc:creator/>
  <dc:description/>
  <dc:language>en-US</dc:language>
  <cp:lastModifiedBy/>
  <cp:revision>1</cp:revision>
  <dc:subject/>
  <dc:title/>
</cp:coreProperties>
</file>